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C9A-E9C5-4FE2-B9CF-E6F79E40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24F-C758-4E5E-BB07-6801CCBB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67DB-544C-4F57-9571-B1D68630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7E5-85F0-4C2E-BF14-5141D51A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E3D-81EA-4ACD-A5E6-5E9A637E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C14-7D66-4855-A235-F8035E73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623-9624-4631-B74E-CA5F1977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DE1-6943-4B3B-A3D8-60459D80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8E7-689F-4919-B2A6-28B774D7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7CB-5CC0-4E8F-9EEE-41EDE564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2DF-E9A9-44DB-AF98-10782136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96B-80C2-4508-B1A7-8BC87B8F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FAB4-7A12-4A7B-B949-CC3C6B917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iftystat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50states.com/flower/newjersey.htm" TargetMode="External"/><Relationship Id="rId3" Type="http://schemas.openxmlformats.org/officeDocument/2006/relationships/hyperlink" Target="http://www.50states.com/flower/newjersey.htm" TargetMode="External"/><Relationship Id="rId4" Type="http://schemas.openxmlformats.org/officeDocument/2006/relationships/hyperlink" Target="http://www.50states.com/newjerse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newjersey.shtml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enchantedlearning.com/usa/states/newjersey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125c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518148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a Ter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1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838080"/>
            <a:ext cx="6477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99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Edwardian Script ITC"/>
              </a:rPr>
              <a:t>New Jerse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477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5254560"/>
            <a:ext cx="2438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ong: Fifty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w York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tober 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1,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ifty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Capitol: Tren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pulation: 8,414,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ed Union: December 1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787 It is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Motto: Liberty and Prosp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Nickname: Garden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125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25cd"/>
                </a:solidFill>
                <a:latin typeface="Arial"/>
              </a:rPr>
              <a:t>Flower: Vio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ird: Eastern Goldfi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ff3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f31d"/>
                </a:solidFill>
                <a:latin typeface="Arial"/>
              </a:rPr>
              <a:t>Song: I’m From New Jers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Meaning Behind Name: It was named after the Channel Island, Jersey, by Sir George Carteret, who came from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teresting Facts: Their governor is Christopher S. Christie. A historical site to see there is The Edison National Historic Site in the West O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363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9880" y="0"/>
            <a:ext cx="4648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w Jersey State F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1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50states.com/flower/newjersey.ht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657600"/>
            <a:ext cx="373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tate flower. In 1971 the urging of New Jersey's garden clubs, legislation more specifically designating the Common Meadow Violet as the state flower was enacted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5029200"/>
            <a:ext cx="23623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w Jersey State F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October 18th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50states.com/flower/newjersey.ht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New Jersey State Fla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44197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91320" y="35053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tate flag. The New Jersey state flag was formally adopted in 189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00ffff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405144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29200" y="2362320"/>
            <a:ext cx="3200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Jersey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e Map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tober 2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newjerse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94216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map of New Jersey, the State Capitol, cities, water, and State bound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All images Copyright © 1997 - 2000 WriteLine. All Rights Reserved. William Trent house"/>
          <p:cNvPicPr/>
          <p:nvPr/>
        </p:nvPicPr>
        <p:blipFill>
          <a:blip r:embed="rId2"/>
          <a:stretch/>
        </p:blipFill>
        <p:spPr>
          <a:xfrm>
            <a:off x="304920" y="1143000"/>
            <a:ext cx="8610480" cy="4800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4572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This is the William Trent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17220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019920"/>
            <a:ext cx="86868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Postcards From America, </a:t>
            </a:r>
            <a:r>
              <a:rPr b="0" lang="en-US" sz="2400" spc="-1" strike="noStrike" u="sng">
                <a:solidFill>
                  <a:srgbClr val="9933ff"/>
                </a:solidFill>
                <a:uFillTx/>
                <a:latin typeface="Arial"/>
              </a:rPr>
              <a:t>New Jersey,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 October 25</a:t>
            </a:r>
            <a:r>
              <a:rPr b="0" lang="en-US" sz="2400" spc="-1" strike="noStrike" baseline="30000">
                <a:solidFill>
                  <a:srgbClr val="9933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, 201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ttp://www.postcardsfrom.com/t1/991208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All images Copyright © 1997 - 2000 WriteLine. All Rights Reserved. Navesink Lighthouse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72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This is the Twin Lights of Navesink Historic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791320"/>
            <a:ext cx="7239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Postcards From America,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New Jersey,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October 25th, 201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ttp://www.postcardsfrom.com/t1/991208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All images Copyright © 1997 - 2000 WriteLine. All Rights Reserved. Washingtion Crossing"/>
          <p:cNvPicPr/>
          <p:nvPr/>
        </p:nvPicPr>
        <p:blipFill>
          <a:blip r:embed="rId2"/>
          <a:stretch/>
        </p:blipFill>
        <p:spPr>
          <a:xfrm>
            <a:off x="1066680" y="990720"/>
            <a:ext cx="7010640" cy="4673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9320" y="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Washington Crossing State Park in Titusville N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5638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 Jersey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tober 25th, 2011, http://www.postcardsfrom.com/t1/991208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All images Copyright © 1997 - 2000 WriteLine. All Rights Reserved. Trenton NJ Capitol"/>
          <p:cNvPicPr/>
          <p:nvPr/>
        </p:nvPicPr>
        <p:blipFill>
          <a:blip r:embed="rId2"/>
          <a:stretch/>
        </p:blipFill>
        <p:spPr>
          <a:xfrm>
            <a:off x="990720" y="812880"/>
            <a:ext cx="7467480" cy="4978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3880" y="5715000"/>
            <a:ext cx="685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ostcards From America, </a:t>
            </a: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</a:rPr>
              <a:t>New Jersey,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October 25th, 201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ttp://www.postcardsfrom.com/t1/991208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-152280"/>
            <a:ext cx="54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is is the State Capitol in Trenton N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7Z</dcterms:created>
  <dc:creator>install</dc:creator>
  <dc:description/>
  <dc:language>en-US</dc:language>
  <cp:lastModifiedBy>install</cp:lastModifiedBy>
  <dcterms:modified xsi:type="dcterms:W3CDTF">2011-10-27T13:39:38Z</dcterms:modified>
  <cp:revision>7</cp:revision>
  <dc:subject/>
  <dc:title>Slide 1</dc:title>
</cp:coreProperties>
</file>